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27A-E388-4B26-9F91-16E22E74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A3B-D8C8-4473-8263-939F1CA9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DC0-3F3E-49E8-8C90-C0F01EE9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E8E-6E82-4D0C-B99E-D75F19A4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7789-99FC-48B8-8A74-43EDEB74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D4DB-AD2E-4B09-979A-942567E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976-3C56-4053-A9C6-6DEAC25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9B3A-C4B3-4099-932D-0BB1E494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9047-953B-4B49-B3CE-196ADD3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4520-C3F7-43F1-A0CD-A5DE727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85C-FF9C-4831-A70D-73B09BF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CDB-AEDC-4D88-98A4-1D3CC9A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C5C2-BE03-4FBD-B8B7-7924359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9D20-2FE9-4E20-8D77-F4DB8D3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526E-6505-473D-A6A9-C012439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CEB0-A8BD-408A-B70E-13D77092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177-B512-4A51-AD26-10D3AA1C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FCD-C50D-4650-980A-53B41C6C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1E8-12CE-444E-AA64-95C3C65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578-133A-4F94-B91C-7823831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7A8-B8AC-4800-9C4C-5F656C1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EB5-CF55-4584-9FD9-E52CE18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B78-0C82-4FEC-8633-DB6B5B5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43F-6221-405D-85FE-0A9AC2B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983-940B-4C73-8835-F8432C649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467480" cy="31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5F62-F451-4DD2-8CEF-482E4E880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oral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Landlords of the Reef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-228600"/>
            <a:ext cx="3200400" cy="2079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2973240" cy="215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809880" y="3049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280280" y="3886200"/>
            <a:ext cx="1863720" cy="271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762120" y="4876920"/>
            <a:ext cx="2166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are these mutually symbiotic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rs and passengers in a carp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ants and landl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0034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03480" y="2217600"/>
            <a:ext cx="3137040" cy="2791440"/>
            <a:chOff x="3003480" y="2217600"/>
            <a:chExt cx="3137040" cy="2791440"/>
          </a:xfrm>
        </p:grpSpPr>
        <p:sp>
          <p:nvSpPr>
            <p:cNvPr id="121" name=""/>
            <p:cNvSpPr/>
            <p:nvPr/>
          </p:nvSpPr>
          <p:spPr>
            <a:xfrm>
              <a:off x="3003480" y="2217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003480" y="2217600"/>
              <a:ext cx="3137040" cy="2791440"/>
              <a:chOff x="3003480" y="2217600"/>
              <a:chExt cx="3137040" cy="279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3095640" y="2217600"/>
                <a:ext cx="304488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2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03480" y="262872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342900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36194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8" name="" descr="very colorful mushroom coral"/>
          <p:cNvPicPr/>
          <p:nvPr/>
        </p:nvPicPr>
        <p:blipFill>
          <a:blip r:embed="rId2"/>
          <a:stretch/>
        </p:blipFill>
        <p:spPr>
          <a:xfrm>
            <a:off x="533520" y="2057400"/>
            <a:ext cx="437832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8284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brown-colored and white-colored mushroom corals"/>
          <p:cNvPicPr/>
          <p:nvPr/>
        </p:nvPicPr>
        <p:blipFill>
          <a:blip r:embed="rId3"/>
          <a:stretch/>
        </p:blipFill>
        <p:spPr>
          <a:xfrm>
            <a:off x="4114800" y="228600"/>
            <a:ext cx="4138560" cy="3994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purple coral with stubby branches"/>
          <p:cNvPicPr/>
          <p:nvPr/>
        </p:nvPicPr>
        <p:blipFill>
          <a:blip r:embed="rId4"/>
          <a:stretch/>
        </p:blipFill>
        <p:spPr>
          <a:xfrm>
            <a:off x="3809880" y="2209680"/>
            <a:ext cx="4876920" cy="4218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4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should you know about coral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are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s live inside of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ki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 cor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rd corals (These build reefs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are made of tiny polyp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ich look like upside-down jellyfis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44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The Coral Kingdom Image - reef2550"/>
          <p:cNvPicPr/>
          <p:nvPr/>
        </p:nvPicPr>
        <p:blipFill>
          <a:blip r:embed="rId2"/>
          <a:stretch/>
        </p:blipFill>
        <p:spPr>
          <a:xfrm>
            <a:off x="457200" y="3276720"/>
            <a:ext cx="4191120" cy="271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40" y="7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The Coral Kingdom Image - reef2560"/>
          <p:cNvPicPr/>
          <p:nvPr/>
        </p:nvPicPr>
        <p:blipFill>
          <a:blip r:embed="rId3"/>
          <a:stretch/>
        </p:blipFill>
        <p:spPr>
          <a:xfrm>
            <a:off x="228600" y="182880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rd Corals</a:t>
            </a:r>
            <a:br>
              <a:rPr sz="4400"/>
            </a:b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The Reef Build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yps build hard limestone cups around their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ups cement together to make a coral colo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efs are made of hundreds of hard coral colonies next to and on top of each 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’s a Poly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cles release stinging cells when something brushes by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yps make their own limestone cup to hide in during the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night, polyps come out to catch plankton floating 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960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oo-what!?! 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gae, Coral Polyps’ Tena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ide polyps live zooxanthellae, which are alg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xanthellae give corals their col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algae are plants, they use sunlight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make food (the process known as photosynthesi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mbiosis:</a:t>
            </a:r>
            <a:br>
              <a:rPr sz="4400"/>
            </a:b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So Happy Togeth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rganisms living together and helping each other is called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ymbio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ooxanthellae make oxygen, remove the polyp’s wastes, and make food for the polyp from photosynthe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al polyps protect the zooxanthellae, releas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provide it with necessary nutrients from their own was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Cleaner fish"/>
          <p:cNvPicPr/>
          <p:nvPr/>
        </p:nvPicPr>
        <p:blipFill>
          <a:blip r:embed="rId2"/>
          <a:stretch/>
        </p:blipFill>
        <p:spPr>
          <a:xfrm>
            <a:off x="6773760" y="304920"/>
            <a:ext cx="23702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tually Beneficial Symbios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Win-Win Situ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 Plover bird and crocod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mblebee and fl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ens (fungi and alga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intestine and bac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rasitic Symbiosis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Win-Lose Situ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peworms and intest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ks and 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tletoe and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4:59:31Z</dcterms:created>
  <dc:creator>pkoenig</dc:creator>
  <dc:description/>
  <dc:language>en-US</dc:language>
  <cp:lastModifiedBy>tchriste</cp:lastModifiedBy>
  <dcterms:modified xsi:type="dcterms:W3CDTF">2005-12-21T20:19:18Z</dcterms:modified>
  <cp:revision>22</cp:revision>
  <dc:subject/>
  <dc:title>Corals</dc:title>
</cp:coreProperties>
</file>