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E06-A99B-4BFF-8B88-1EA55D59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40B-CE92-4699-BBDB-DBBB52FE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201-D545-4D5E-9BAA-FDC3FAC6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E4C-F6D7-43CA-BB05-D74486CA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081-F935-4F27-A9DA-97530280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329-CC80-45E9-9E5B-DFC2904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BECA-6585-4081-BACB-B0020501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6F4-D5CB-4611-A9F0-B81F57C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F32-BA9F-4F32-A43D-23B2EF9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BE4-B665-4A2E-AC6C-D632046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92E-37EE-4E21-8775-7142F8C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172-8AFF-4EC1-A6F2-BB060E0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4D21-10C3-435B-A49D-D4A7A09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E1DD-9287-4549-AD9D-BA7002A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284-11C0-4553-92A9-5339F8E3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479B-DE8C-48DD-8164-C7BA694A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1A1-CAE8-45EF-834F-19E02462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8B3-6FAA-41A6-967C-8B8E8A1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546-F964-4FEB-9C14-210A8EDB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1A8-49DE-42C8-AE77-EB45895C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775-7346-4C65-9B2E-6B17536B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32B-B4B9-4645-8708-A5B655C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E57-2EF9-4BA1-B7CD-58F1130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EA2-DC16-4308-9807-217D03A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E97-1334-44ED-B086-3CE553BB237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437D-65C1-4C5C-9789-5B955A65F92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reats to Coral Reef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atural and Huma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3" name="" descr="The Coral Kingdom Image - reef2051"/>
          <p:cNvPicPr/>
          <p:nvPr/>
        </p:nvPicPr>
        <p:blipFill>
          <a:blip r:embed="rId1"/>
          <a:stretch/>
        </p:blipFill>
        <p:spPr>
          <a:xfrm>
            <a:off x="5715000" y="4343400"/>
            <a:ext cx="30700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5" name="" descr="The Coral Kingdom Image - reef2098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95880" y="457200"/>
            <a:ext cx="2590920" cy="16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209680" y="380880"/>
            <a:ext cx="4419720" cy="1738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2800440" y="2006640"/>
            <a:ext cx="4251240" cy="360"/>
            <a:chOff x="2800440" y="2006640"/>
            <a:chExt cx="4251240" cy="360"/>
          </a:xfrm>
        </p:grpSpPr>
        <p:sp>
          <p:nvSpPr>
            <p:cNvPr id="120" name=""/>
            <p:cNvSpPr/>
            <p:nvPr/>
          </p:nvSpPr>
          <p:spPr>
            <a:xfrm>
              <a:off x="2800440" y="2006640"/>
              <a:ext cx="425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800440" y="2006640"/>
              <a:ext cx="4243320" cy="360"/>
              <a:chOff x="2800440" y="2006640"/>
              <a:chExt cx="4243320" cy="360"/>
            </a:xfrm>
          </p:grpSpPr>
          <p:sp>
            <p:nvSpPr>
              <p:cNvPr id="122" name=""/>
              <p:cNvSpPr/>
              <p:nvPr/>
            </p:nvSpPr>
            <p:spPr>
              <a:xfrm>
                <a:off x="2800440" y="2006640"/>
                <a:ext cx="4243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00440" y="2006640"/>
                <a:ext cx="4243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" name="" descr="Cyanide fishing: a practice that injures reefs. COPYRIGHT: INTERNATIONAL MARINELIFE ALLIANCE"/>
          <p:cNvPicPr/>
          <p:nvPr/>
        </p:nvPicPr>
        <p:blipFill>
          <a:blip r:embed="rId6"/>
          <a:stretch/>
        </p:blipFill>
        <p:spPr>
          <a:xfrm>
            <a:off x="533520" y="4317840"/>
            <a:ext cx="24382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reats from Na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Unusually strong waves such as those from a hurrican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ater temperature chang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ramatic changes in saltiness of wat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Predators, such as snails and crown of thorns star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vergrowth of alga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3886200"/>
          <a:ext cx="307476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307476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90840" y="2319480"/>
          <a:ext cx="4610160" cy="37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0840" y="2319480"/>
                    <a:ext cx="461016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082520" y="1752480"/>
          <a:ext cx="3014640" cy="201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1752480"/>
                    <a:ext cx="301464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952880" y="1828800"/>
          <a:ext cx="198144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1828800"/>
                    <a:ext cx="19814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ral-eating Sna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own of Thorns Starfis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8" name="" descr="The Coral Kingdom Image - reef2085"/>
          <p:cNvPicPr/>
          <p:nvPr/>
        </p:nvPicPr>
        <p:blipFill>
          <a:blip r:embed="rId1"/>
          <a:stretch/>
        </p:blipFill>
        <p:spPr>
          <a:xfrm>
            <a:off x="4191120" y="3200400"/>
            <a:ext cx="4444920" cy="289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0" y="-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" descr="The Coral Kingdom Image - reef0238"/>
          <p:cNvPicPr/>
          <p:nvPr/>
        </p:nvPicPr>
        <p:blipFill>
          <a:blip r:embed="rId2"/>
          <a:stretch/>
        </p:blipFill>
        <p:spPr>
          <a:xfrm>
            <a:off x="914400" y="3581280"/>
            <a:ext cx="3449520" cy="288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40" y="5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00200" y="1739880"/>
          <a:ext cx="358128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739880"/>
                    <a:ext cx="35812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reats from Human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Pollu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Sediments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block light from zooxanthella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Chemicals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either poison corals or allow too much algae to grow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Power plan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ilter water and kill fish and plankt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leasing hot water kills organism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ll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503880" cy="232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3429000" cy="2193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Sediment"/>
          <p:cNvPicPr/>
          <p:nvPr/>
        </p:nvPicPr>
        <p:blipFill>
          <a:blip r:embed="rId4"/>
          <a:stretch/>
        </p:blipFill>
        <p:spPr>
          <a:xfrm>
            <a:off x="5791320" y="762120"/>
            <a:ext cx="20224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wer Pl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106880" cy="273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124080" y="3352680"/>
            <a:ext cx="4114800" cy="3121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6392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36799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Threats from Hum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forest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auses erosion which clouds the wat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urning of trees could be a factor in climate chang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structive fish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lasting with dynami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yanide poiso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oats running aground, anchor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verfishi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up to Us to Save Coral Reef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994120" y="2309760"/>
            <a:ext cx="3157560" cy="2239920"/>
            <a:chOff x="2994120" y="2309760"/>
            <a:chExt cx="3157560" cy="2239920"/>
          </a:xfrm>
        </p:grpSpPr>
        <p:sp>
          <p:nvSpPr>
            <p:cNvPr id="160" name=""/>
            <p:cNvSpPr/>
            <p:nvPr/>
          </p:nvSpPr>
          <p:spPr>
            <a:xfrm>
              <a:off x="2994120" y="2309760"/>
              <a:ext cx="3157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94120" y="2309760"/>
              <a:ext cx="315756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  </a:t>
              </a:r>
              <a:r>
                <a:rPr b="0" lang="en-US" sz="11700" spc="-1" strike="noStrike">
                  <a:solidFill>
                    <a:srgbClr val="f8f8f8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62" name="" descr="reef scene"/>
          <p:cNvPicPr/>
          <p:nvPr/>
        </p:nvPicPr>
        <p:blipFill>
          <a:blip r:embed="rId1"/>
          <a:stretch/>
        </p:blipFill>
        <p:spPr>
          <a:xfrm>
            <a:off x="4038480" y="1676520"/>
            <a:ext cx="3733920" cy="2435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1925640" cy="1940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33720" y="4648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e Responsibl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3:47:11Z</dcterms:created>
  <dc:creator>pkoenig</dc:creator>
  <dc:description/>
  <dc:language>en-US</dc:language>
  <cp:lastModifiedBy>tchriste</cp:lastModifiedBy>
  <dcterms:modified xsi:type="dcterms:W3CDTF">2005-12-21T19:57:26Z</dcterms:modified>
  <cp:revision>23</cp:revision>
  <dc:subject/>
  <dc:title>Threats to Coral Reefs</dc:title>
</cp:coreProperties>
</file>